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9508-E6F3-404F-AC5E-E36E658F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7BAE-02C3-4E47-825E-CF68B4CB90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830-6CC0-48BD-82BF-EE049C4D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AA1-6D44-4457-B0CF-E03ACF65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636-874B-4B8A-B853-DCF5DF5F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546-4A42-40BF-B59F-8E9D87B3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9DC-D196-45AA-A397-6F29FB11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2E0-10EF-4E47-A6BF-B4822FD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96A-CC92-4360-994F-4CBDF58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194-CD93-4136-9A9D-425E3BF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E9C-8450-4334-8C90-27C2B761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DDC-431F-4209-83D7-6946F14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41D-3463-472E-9148-8037792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D87-E59B-4889-9D61-AD85C17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9D1C-5C88-49BB-9A21-04DD31D82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u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9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3048120"/>
            <a:ext cx="7162920" cy="16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SA Day 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14300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Key Question 14 What is Magnetism? EXIT SLI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609480"/>
            <a:ext cx="899136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4: What is magnetism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magnetism, magnetic poles, and magnetic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the terms below with their defin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s of a magnetic object where the magnetic force is 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 inside all objects that when lined up create a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of attraction or repulsion among magnetic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region around a magnet where magnetic force is ex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magnets behave when brought near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the magnets below attract or rep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an object can be magnet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can you do to create a temporary magnet out of a papercli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409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1984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962840" y="35053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3840" y="3949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56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24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86080" y="39495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648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8077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609480"/>
            <a:ext cx="899136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4: What is magnetism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magnetism, magnetic poles, and magnetic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the terms below with their defin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s of a magnetic object where the magnetic force is 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 inside all objects that when lined up create a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of attraction or repulsion among magnetic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region around a magnet where magnetic force is ex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magnets behave when brought near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the magnets below attract or rep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an object can be magnet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can you do to create a temporary magnet out of a papercli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6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409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81984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962840" y="35053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3840" y="3949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56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724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486080" y="39495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648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077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Key Question 14 – Exit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&amp; Circuits – ActivInspire Flipchart (internet activities) TUESDAY &amp;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! (Step 2 Due 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“open” circ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283C205D-661B-425B-80DF-768CAC33C30E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is required to make a circui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 of insulators and conductors in electric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a series and parallel circuits are constr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and describe how electrical energy can be converted into other forms of energy (light, sound, and mo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440" y="1704960"/>
            <a:ext cx="8686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a good night’s sleep and eat breakfast in the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agnet Fishing Derby Step 2 – DUE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ircuit is considered “open” when the switch is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rned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rned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ken or destro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105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41:33Z</dcterms:created>
  <dc:creator>CCPS</dc:creator>
  <dc:description/>
  <dc:language>en-US</dc:language>
  <cp:lastModifiedBy>CCPS</cp:lastModifiedBy>
  <dcterms:modified xsi:type="dcterms:W3CDTF">2010-03-09T17:41:51Z</dcterms:modified>
  <cp:revision>2</cp:revision>
  <dc:subject/>
  <dc:title>Slide 1</dc:title>
</cp:coreProperties>
</file>